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gif" ContentType="image/gif"/>
  <Override PartName="/ppt/media/image4.wmf" ContentType="image/x-wmf"/>
  <Override PartName="/ppt/media/image2.wmf" ContentType="image/x-wmf"/>
  <Override PartName="/ppt/media/image3.jpeg" ContentType="image/jpeg"/>
  <Override PartName="/ppt/media/image5.jpeg" ContentType="image/jpeg"/>
  <Override PartName="/ppt/media/image6.png" ContentType="image/png"/>
  <Override PartName="/ppt/media/image10.wmf" ContentType="image/x-wmf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26CDF-B70F-4096-9CCB-4D8ADC3D49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46E11-3BB4-4409-B928-A8B64E3273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64006-1E74-43D4-8EDD-85847888B3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cher Note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software programs will allow animations to be exported as SWF files even if you do not have the Adobe Flash software installed on your compu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F5531-CEBD-4FDA-A9E7-9A88ECE3CA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49C3B-582C-4FCE-AD13-2FDD06724F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cher Not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file type is used that requires a specific player, a link should be included on the page to a website where the player or plug-in can be downloaded easi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A885E-AFB4-4A4C-97FF-4A344DDFE9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cher Note: Different types of connections (56K modem, DSL, etc.) can carry different amounts of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21A22-2755-47E5-B733-717D6C3D21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cher Note:  The terms movie and video are being used to refer to the anim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s that can result in larger file siz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mount of movement in an animation affects file size.  More movement = larger file 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objects in a scene affects file size.  More objects = larger file 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r depth affects file size. More colors used = larger file 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rames per second contained in the animation affects file size. Higher FPS = longer animations and larger file siz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7C4B7-BAA1-4E08-A7D6-0819BEAFAC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34FFD-15F7-4AAC-87CD-2DFAA76E77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D5AE84-C47B-4874-BA27-53B0B8FAE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9C9589-BF9D-45C7-8F6D-E1AD74635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1A79A4-9A9F-40BE-9200-E45AE0B30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C4A1AB-9572-479F-8E63-B5777FA7E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ADFA7-EA30-4EFC-B21E-88FC83025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21D5C-DB8E-40B4-A590-167C68460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39591-C70B-4627-B1D3-F1CA236C6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3D4F3-F148-4A84-8523-5A5BD1DC9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0242F-0DD6-4B36-BC2F-5005153F2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B2344-E9A8-4514-9710-1C50502A6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C3E28-665E-47C4-973F-F2834E9D6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FC94DD-2DEC-468D-B459-D7BB0F5B4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DB071-6D8F-4968-B627-41A854AED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A6A81-2EC7-43A9-99B9-43CA3FEA6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6976F-2705-41BE-BB39-1A5FB79DA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1B793-025B-4972-9562-8B027C59B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C6C3F-B919-487E-AD77-5AB7AA3A8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E2ABFC-7DB1-4644-A510-D87EE13AD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49B348-6412-4148-8A31-E7A43453C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CF1386-F010-41B4-A910-9B8809E48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FDC60D-2C78-4E97-9039-5B0A4D389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62B63C-5D30-45D9-81DC-0C3C63758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586EA0-0BB5-4B29-BC2F-1D4FA60B5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96618C-9E6C-4807-B765-DF4610F51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AB345-F7B1-4020-A5BF-6585C92A244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C4AD0-E0BA-49B0-B7AE-827EF78E9B7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362320" y="2057040"/>
            <a:ext cx="678168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2.02G Publishing Animated Vide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752480" y="4343400"/>
            <a:ext cx="69343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02 Develop Computer Anim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666699"/>
                </a:solidFill>
                <a:latin typeface="Arial"/>
              </a:rPr>
              <a:t>Animation File Typ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le QuickTime Movie (MO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les can be either downloaded or stream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un on many different operating system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be viewed in the QuickTime player which is a free downloa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ing Pictures Expert Group (MPE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very compressed video format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les tend to be much smaller and better quality than other forma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commended for videos that will be downloaded instead of streamed because it does not require a specific player or plug-i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666699"/>
                </a:solidFill>
                <a:latin typeface="Arial"/>
              </a:rPr>
              <a:t>Animation File Typ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ockwave Flash (SW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nounced “swiff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le format for animation created with Adobe Flash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les can contain text as well as both vector and raster graphics; also may include interactive actions written in ActionScrip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be viewed in the Adobe Flash Player which is a free download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pular format for the Web becaus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 size is sma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stream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000" spc="-1" strike="noStrike">
                <a:solidFill>
                  <a:srgbClr val="ffffff"/>
                </a:solidFill>
                <a:latin typeface="Arial"/>
              </a:rPr>
              <a:t>Step 3: Choose a Delivery Method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6699"/>
                </a:solidFill>
                <a:latin typeface="Arial"/>
              </a:rPr>
              <a:t>Delivery Meth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4640" indent="-404640">
              <a:spcBef>
                <a:spcPts val="876"/>
              </a:spcBef>
              <a:spcAft>
                <a:spcPts val="876"/>
              </a:spcAft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ce videos have been analyzed and optimized to perform best in the intended medium, the next step is to publis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876"/>
              </a:spcBef>
              <a:spcAft>
                <a:spcPts val="876"/>
              </a:spcAft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ivery methods available for distributing anim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30320" indent="-349200">
              <a:spcBef>
                <a:spcPts val="751"/>
              </a:spcBef>
              <a:spcAft>
                <a:spcPts val="751"/>
              </a:spcAft>
              <a:buClr>
                <a:srgbClr val="9999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part of a Web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30320" indent="-349200">
              <a:spcBef>
                <a:spcPts val="751"/>
              </a:spcBef>
              <a:spcAft>
                <a:spcPts val="751"/>
              </a:spcAft>
              <a:buClr>
                <a:srgbClr val="9999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a CD-ROM or DV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30320" indent="-349200">
              <a:spcBef>
                <a:spcPts val="751"/>
              </a:spcBef>
              <a:spcAft>
                <a:spcPts val="751"/>
              </a:spcAft>
              <a:buClr>
                <a:srgbClr val="9999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an executable file which bundles both the animation and the program to play in a single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14" descr="MC900360628[1]"/>
          <p:cNvPicPr/>
          <p:nvPr/>
        </p:nvPicPr>
        <p:blipFill>
          <a:blip r:embed="rId1"/>
          <a:stretch/>
        </p:blipFill>
        <p:spPr>
          <a:xfrm>
            <a:off x="5943600" y="4267080"/>
            <a:ext cx="2438280" cy="5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761760" y="1600200"/>
            <a:ext cx="4343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an animation or an executable file is distributed over the Internet, the entire file must be downloaded before the animation can pl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imations distributed as part of a web page can be ei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Clr>
                <a:srgbClr val="99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eam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Clr>
                <a:srgbClr val="99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wnloa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singleAxisTime"/>
          <p:cNvPicPr/>
          <p:nvPr/>
        </p:nvPicPr>
        <p:blipFill>
          <a:blip r:embed="rId1"/>
          <a:stretch/>
        </p:blipFill>
        <p:spPr>
          <a:xfrm>
            <a:off x="5638680" y="1752480"/>
            <a:ext cx="3267360" cy="347364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685440" y="533520"/>
            <a:ext cx="7924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6699"/>
                </a:solidFill>
                <a:latin typeface="Arial"/>
              </a:rPr>
              <a:t>Delivery Methods </a:t>
            </a:r>
            <a:r>
              <a:rPr b="0" i="1" lang="en-US" sz="2000" spc="-1" strike="noStrike">
                <a:solidFill>
                  <a:srgbClr val="666699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666699"/>
                </a:solidFill>
                <a:latin typeface="Arial"/>
              </a:rPr>
              <a:t>Stream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9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eam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technique for transferring audio and video files over the Internet as a continuous stream of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treaming Proces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285840">
              <a:lnSpc>
                <a:spcPct val="80000"/>
              </a:lnSpc>
              <a:spcBef>
                <a:spcPts val="689"/>
              </a:spcBef>
              <a:spcAft>
                <a:spcPts val="689"/>
              </a:spcAft>
              <a:buClr>
                <a:srgbClr val="99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is held in a temporary storage area called a buffer until it is played by the comput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285840">
              <a:lnSpc>
                <a:spcPct val="80000"/>
              </a:lnSpc>
              <a:spcBef>
                <a:spcPts val="689"/>
              </a:spcBef>
              <a:spcAft>
                <a:spcPts val="689"/>
              </a:spcAft>
              <a:buClr>
                <a:srgbClr val="99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re will always be an initial delay while the first frame is buffe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80000"/>
              </a:lnSpc>
              <a:spcBef>
                <a:spcPts val="751"/>
              </a:spcBef>
              <a:spcAft>
                <a:spcPts val="751"/>
              </a:spcAft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se an animation plays at 5 frames per seco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285840">
              <a:lnSpc>
                <a:spcPct val="80000"/>
              </a:lnSpc>
              <a:spcBef>
                <a:spcPts val="689"/>
              </a:spcBef>
              <a:spcAft>
                <a:spcPts val="689"/>
              </a:spcAft>
              <a:buClr>
                <a:srgbClr val="99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ach frame will play for 0.2 second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99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f the first frame takes 0.3 seconds to download, the animation cannot start playing until after that time has elapsed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666699"/>
                </a:solidFill>
                <a:latin typeface="Arial"/>
              </a:rPr>
              <a:t>Advantages and Disadvantages of Stream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99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Quick Access - files can start playing as soon as a computer begins receiving the data rather than waiting for the complete file to download before play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99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is discarded as it is played so a complete copy of the file is not stored on the viewer’s comput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advan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99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viewer must be connected to the Internet to view the vide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99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viewer’s connection speed influences the quality of playback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99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les cannot be saved and viewed lat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6699"/>
                </a:solidFill>
                <a:latin typeface="Arial"/>
              </a:rPr>
              <a:t>Plug-ins and Play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5029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ug-ins or players may be required to view an animation over the Interne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18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lug-in is a program that works with the browser to expand its capabili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18880">
              <a:spcBef>
                <a:spcPts val="601"/>
              </a:spcBef>
              <a:buClr>
                <a:srgbClr val="99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71640" indent="-230400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w it to play video or audio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1640" indent="-230400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w it to open certain file typ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4" descr="standalone"/>
          <p:cNvPicPr/>
          <p:nvPr/>
        </p:nvPicPr>
        <p:blipFill>
          <a:blip r:embed="rId1"/>
          <a:stretch/>
        </p:blipFill>
        <p:spPr>
          <a:xfrm>
            <a:off x="5562720" y="2133720"/>
            <a:ext cx="27432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6699"/>
                </a:solidFill>
                <a:latin typeface="Arial"/>
              </a:rPr>
              <a:t>Plug-ins and Play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4640" indent="-404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andalone play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 separate program that can play video and audio files without the browser software being op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35000" indent="-3524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obe Flash P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35000" indent="-3524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ck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35000" indent="-3524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lP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35000" indent="-3524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ndows Media P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7"/>
          <p:cNvGrpSpPr/>
          <p:nvPr/>
        </p:nvGrpSpPr>
        <p:grpSpPr>
          <a:xfrm>
            <a:off x="6019920" y="4952880"/>
            <a:ext cx="2057400" cy="990720"/>
            <a:chOff x="6019920" y="4952880"/>
            <a:chExt cx="2057400" cy="990720"/>
          </a:xfrm>
        </p:grpSpPr>
        <p:pic>
          <p:nvPicPr>
            <p:cNvPr id="153" name="Picture 4" descr="flash_rune"/>
            <p:cNvPicPr/>
            <p:nvPr/>
          </p:nvPicPr>
          <p:blipFill>
            <a:blip r:embed="rId1"/>
            <a:stretch/>
          </p:blipFill>
          <p:spPr>
            <a:xfrm>
              <a:off x="6019920" y="4952880"/>
              <a:ext cx="795600" cy="99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" name="Picture 5" descr="flash install"/>
            <p:cNvPicPr/>
            <p:nvPr/>
          </p:nvPicPr>
          <p:blipFill>
            <a:blip r:embed="rId2"/>
            <a:stretch/>
          </p:blipFill>
          <p:spPr>
            <a:xfrm>
              <a:off x="6842880" y="5481000"/>
              <a:ext cx="1234440" cy="283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5" name="Picture 8" descr="quicktime%20logo"/>
          <p:cNvPicPr/>
          <p:nvPr/>
        </p:nvPicPr>
        <p:blipFill>
          <a:blip r:embed="rId3"/>
          <a:stretch/>
        </p:blipFill>
        <p:spPr>
          <a:xfrm>
            <a:off x="7086600" y="3962520"/>
            <a:ext cx="914400" cy="8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Step 4: Publish the Animation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666699"/>
                </a:solidFill>
                <a:latin typeface="Arial"/>
              </a:rPr>
              <a:t>Publishing Animated Vide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lishing animations and animated videos involves the following step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yze and optimize the anim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ose an appropriate file typ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ose the delivery meth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blish the anim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MPj03415250000[1]"/>
          <p:cNvPicPr/>
          <p:nvPr/>
        </p:nvPicPr>
        <p:blipFill>
          <a:blip r:embed="rId1"/>
          <a:stretch/>
        </p:blipFill>
        <p:spPr>
          <a:xfrm>
            <a:off x="6477120" y="3962520"/>
            <a:ext cx="20764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blish the An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animations distributed over the Interne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load the file to the host compu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link to the file or embed it into the web p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the animation in different brows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animations distributed on CDs or DV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rn the file onto the dis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lize the dis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the disk in several differen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 or DVD play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7" descr="j0252147"/>
          <p:cNvPicPr/>
          <p:nvPr/>
        </p:nvPicPr>
        <p:blipFill>
          <a:blip r:embed="rId1"/>
          <a:stretch/>
        </p:blipFill>
        <p:spPr>
          <a:xfrm>
            <a:off x="6477120" y="4800600"/>
            <a:ext cx="1803240" cy="12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124080" y="1828800"/>
            <a:ext cx="55627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Factors that Influence </a:t>
            </a:r>
            <a:br>
              <a:rPr sz="4000"/>
            </a:b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the Delivery of </a:t>
            </a:r>
            <a:br>
              <a:rPr sz="4000"/>
            </a:b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Computer Anim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666699"/>
                </a:solidFill>
                <a:latin typeface="Arial"/>
              </a:rPr>
              <a:t>Factors that influence the delivery of computer animations:</a:t>
            </a:r>
            <a:br>
              <a:rPr sz="40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560" y="2408400"/>
            <a:ext cx="693396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ewer’s bandwidth, or connection spe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eaming 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yback 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Group 14"/>
          <p:cNvGrpSpPr/>
          <p:nvPr/>
        </p:nvGrpSpPr>
        <p:grpSpPr>
          <a:xfrm>
            <a:off x="2438280" y="3581280"/>
            <a:ext cx="6400800" cy="2745720"/>
            <a:chOff x="2438280" y="3581280"/>
            <a:chExt cx="6400800" cy="2745720"/>
          </a:xfrm>
        </p:grpSpPr>
        <p:grpSp>
          <p:nvGrpSpPr>
            <p:cNvPr id="164" name="Group 6"/>
            <p:cNvGrpSpPr/>
            <p:nvPr/>
          </p:nvGrpSpPr>
          <p:grpSpPr>
            <a:xfrm>
              <a:off x="4876920" y="3581280"/>
              <a:ext cx="2590200" cy="1904760"/>
              <a:chOff x="4876920" y="3581280"/>
              <a:chExt cx="2590200" cy="1904760"/>
            </a:xfrm>
          </p:grpSpPr>
          <p:pic>
            <p:nvPicPr>
              <p:cNvPr id="165" name="Picture 4" descr="Bandwidth02"/>
              <p:cNvPicPr/>
              <p:nvPr/>
            </p:nvPicPr>
            <p:blipFill>
              <a:blip r:embed="rId1"/>
              <a:stretch/>
            </p:blipFill>
            <p:spPr>
              <a:xfrm>
                <a:off x="4876920" y="3581280"/>
                <a:ext cx="2552400" cy="1885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6" name="Rectangle 5"/>
              <p:cNvSpPr/>
              <p:nvPr/>
            </p:nvSpPr>
            <p:spPr>
              <a:xfrm>
                <a:off x="5790960" y="5181480"/>
                <a:ext cx="1676160" cy="304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Text Box 7"/>
            <p:cNvSpPr/>
            <p:nvPr/>
          </p:nvSpPr>
          <p:spPr>
            <a:xfrm>
              <a:off x="7543800" y="4267080"/>
              <a:ext cx="129528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Internet (water is the data)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8"/>
            <p:cNvSpPr/>
            <p:nvPr/>
          </p:nvSpPr>
          <p:spPr>
            <a:xfrm>
              <a:off x="7162920" y="457200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9"/>
            <p:cNvSpPr/>
            <p:nvPr/>
          </p:nvSpPr>
          <p:spPr>
            <a:xfrm>
              <a:off x="2438280" y="5410080"/>
              <a:ext cx="2971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nnection Type determines how much data can transfer to the network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10"/>
            <p:cNvSpPr/>
            <p:nvPr/>
          </p:nvSpPr>
          <p:spPr>
            <a:xfrm flipV="1">
              <a:off x="4495680" y="5333760"/>
              <a:ext cx="9144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6699"/>
                </a:solidFill>
                <a:latin typeface="Arial"/>
              </a:rPr>
              <a:t>Bandwid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Group 16"/>
          <p:cNvGrpSpPr/>
          <p:nvPr/>
        </p:nvGrpSpPr>
        <p:grpSpPr>
          <a:xfrm>
            <a:off x="3809880" y="1600200"/>
            <a:ext cx="5334120" cy="4876920"/>
            <a:chOff x="3809880" y="1600200"/>
            <a:chExt cx="5334120" cy="4876920"/>
          </a:xfrm>
        </p:grpSpPr>
        <p:grpSp>
          <p:nvGrpSpPr>
            <p:cNvPr id="173" name="Group 15"/>
            <p:cNvGrpSpPr/>
            <p:nvPr/>
          </p:nvGrpSpPr>
          <p:grpSpPr>
            <a:xfrm>
              <a:off x="3809880" y="1600200"/>
              <a:ext cx="5334120" cy="4876920"/>
              <a:chOff x="3809880" y="1600200"/>
              <a:chExt cx="5334120" cy="4876920"/>
            </a:xfrm>
          </p:grpSpPr>
          <p:grpSp>
            <p:nvGrpSpPr>
              <p:cNvPr id="174" name="Group 14"/>
              <p:cNvGrpSpPr/>
              <p:nvPr/>
            </p:nvGrpSpPr>
            <p:grpSpPr>
              <a:xfrm>
                <a:off x="3809880" y="1600200"/>
                <a:ext cx="5334120" cy="4876920"/>
                <a:chOff x="3809880" y="1600200"/>
                <a:chExt cx="5334120" cy="4876920"/>
              </a:xfrm>
            </p:grpSpPr>
            <p:pic>
              <p:nvPicPr>
                <p:cNvPr id="175" name="Picture 4" descr="Bandwidth01"/>
                <p:cNvPicPr/>
                <p:nvPr/>
              </p:nvPicPr>
              <p:blipFill>
                <a:blip r:embed="rId1"/>
                <a:srcRect l="0" t="0" r="15795" b="-1225"/>
                <a:stretch/>
              </p:blipFill>
              <p:spPr>
                <a:xfrm>
                  <a:off x="3809880" y="1600200"/>
                  <a:ext cx="5334120" cy="487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6" name="Rectangle 5"/>
                <p:cNvSpPr/>
                <p:nvPr/>
              </p:nvSpPr>
              <p:spPr>
                <a:xfrm>
                  <a:off x="4476240" y="3935520"/>
                  <a:ext cx="1666800" cy="4179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7" name="Rectangle 8"/>
              <p:cNvSpPr/>
              <p:nvPr/>
            </p:nvSpPr>
            <p:spPr>
              <a:xfrm>
                <a:off x="5009760" y="5537880"/>
                <a:ext cx="1000080" cy="348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8" name="Group 13"/>
            <p:cNvGrpSpPr/>
            <p:nvPr/>
          </p:nvGrpSpPr>
          <p:grpSpPr>
            <a:xfrm>
              <a:off x="4952880" y="4114800"/>
              <a:ext cx="1587600" cy="977760"/>
              <a:chOff x="4952880" y="4114800"/>
              <a:chExt cx="1587600" cy="977760"/>
            </a:xfrm>
          </p:grpSpPr>
          <p:sp>
            <p:nvSpPr>
              <p:cNvPr id="179" name="Text Box 7"/>
              <p:cNvSpPr/>
              <p:nvPr/>
            </p:nvSpPr>
            <p:spPr>
              <a:xfrm>
                <a:off x="5410080" y="4114800"/>
                <a:ext cx="685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Dat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Line 10"/>
              <p:cNvSpPr/>
              <p:nvPr/>
            </p:nvSpPr>
            <p:spPr>
              <a:xfrm flipH="1">
                <a:off x="4952880" y="4292640"/>
                <a:ext cx="457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Line 11"/>
              <p:cNvSpPr/>
              <p:nvPr/>
            </p:nvSpPr>
            <p:spPr>
              <a:xfrm flipH="1">
                <a:off x="6083280" y="4305240"/>
                <a:ext cx="457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Text Box 12"/>
              <p:cNvSpPr/>
              <p:nvPr/>
            </p:nvSpPr>
            <p:spPr>
              <a:xfrm>
                <a:off x="5105160" y="4724280"/>
                <a:ext cx="1371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Bandwidt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6440" indent="-40644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mount of data that can be transmitted ove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network in a given amount of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peed at which data travels over a network depends 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-285840">
              <a:spcBef>
                <a:spcPts val="550"/>
              </a:spcBef>
              <a:buClr>
                <a:srgbClr val="99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type of Internet connection for the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twork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-285840">
              <a:spcBef>
                <a:spcPts val="550"/>
              </a:spcBef>
              <a:buClr>
                <a:srgbClr val="99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number of users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ing the network at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specific tim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064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6699"/>
                </a:solidFill>
                <a:latin typeface="Arial"/>
              </a:rPr>
              <a:t>Streaming and Playback 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aming r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 the rate in frames per second at which videos can be downloaded or transferred to a computer and is determined b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viewer’s network connection spe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ntent of the video file being download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layback r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rate in frames per second at which the video play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457200" y="144756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 lot of people are using the network at one time, less bandwidth will be available to download the da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ill cause the streaming rate to be slow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means the playback rate will most likely be slower than the streaming r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ill cause the playback to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use until more data i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eiv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666699"/>
                </a:solidFill>
                <a:latin typeface="Arial"/>
              </a:rPr>
              <a:t>Bandwidth and Streaming Rate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9" descr="j0286755"/>
          <p:cNvPicPr/>
          <p:nvPr/>
        </p:nvPicPr>
        <p:blipFill>
          <a:blip r:embed="rId1"/>
          <a:stretch/>
        </p:blipFill>
        <p:spPr>
          <a:xfrm>
            <a:off x="6400800" y="4191120"/>
            <a:ext cx="1981080" cy="189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666699"/>
                </a:solidFill>
                <a:latin typeface="Arial"/>
              </a:rPr>
              <a:t>Bandwidth and Streaming Rate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streaming rate is slower than the playback rate, the video will pause until more data is receiv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a good idea to provide the video in different file sizes so viewers can choose the file size best suited for their connection typ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4" descr="images"/>
          <p:cNvPicPr/>
          <p:nvPr/>
        </p:nvPicPr>
        <p:blipFill>
          <a:blip r:embed="rId1"/>
          <a:stretch/>
        </p:blipFill>
        <p:spPr>
          <a:xfrm>
            <a:off x="5410080" y="5334120"/>
            <a:ext cx="2895840" cy="10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lishing Animated Vide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yze and optimize the anim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9672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ze and optimize the ani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9672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ose an appropriate file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9672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ose the delivery meth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9672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sh the ani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imation File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imated GI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-ins and Standalone Play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obe Flash P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ick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P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s Media P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hods for publishing animated vide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9999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9999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D-ROM or DV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9999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able 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ors that influence the delivery and distribution of computer anim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9999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ndwidt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9999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eaming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9999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yback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Step 1: Analyze and Optimize the Anim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666699"/>
                </a:solidFill>
                <a:latin typeface="Arial"/>
              </a:rPr>
              <a:t>Analyze Animations For Potential Problems</a:t>
            </a:r>
            <a:r>
              <a:rPr b="0" i="1" lang="en-US" sz="4000" spc="-1" strike="noStrike">
                <a:solidFill>
                  <a:srgbClr val="666699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potential problems that may occur when downloading and playing a movi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99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entire movie will be downloaded before it is played, determine which parts of the movie are taking the most time to downlo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99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movie will be delivered through a streaming connection, look for ways to reduce or control the pauses during download and playbac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6699"/>
                </a:solidFill>
                <a:latin typeface="Arial"/>
              </a:rPr>
              <a:t>Optimize the An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imations should be optimized in order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99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 the file size for quicker downloa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99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the video or animation play more smoothly during playb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99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tain sufficient quality for view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deos can be optimized anytime o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when they are publish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7" descr="MC900024323[1]"/>
          <p:cNvPicPr/>
          <p:nvPr/>
        </p:nvPicPr>
        <p:blipFill>
          <a:blip r:embed="rId1"/>
          <a:stretch/>
        </p:blipFill>
        <p:spPr>
          <a:xfrm>
            <a:off x="7010280" y="4343400"/>
            <a:ext cx="1481400" cy="18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304920" y="1828800"/>
            <a:ext cx="4038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izing animation involves fine-tuning compression settin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ize the sounds in the Library by compressing to MP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Image05"/>
          <p:cNvPicPr/>
          <p:nvPr/>
        </p:nvPicPr>
        <p:blipFill>
          <a:blip r:embed="rId1"/>
          <a:stretch/>
        </p:blipFill>
        <p:spPr>
          <a:xfrm>
            <a:off x="4648320" y="2133720"/>
            <a:ext cx="4038480" cy="294948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6699"/>
                </a:solidFill>
                <a:latin typeface="Arial"/>
              </a:rPr>
              <a:t>Optimize the Animation </a:t>
            </a:r>
            <a:r>
              <a:rPr b="0" i="1" lang="en-US" sz="2000" spc="-1" strike="noStrike">
                <a:solidFill>
                  <a:srgbClr val="666699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590920" y="1980720"/>
            <a:ext cx="6324480" cy="221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000" spc="-1" strike="noStrike">
                <a:solidFill>
                  <a:srgbClr val="ffffff"/>
                </a:solidFill>
                <a:latin typeface="Arial"/>
              </a:rPr>
              <a:t>Step 2: Choose an Animation File Type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6699"/>
                </a:solidFill>
                <a:latin typeface="Arial"/>
              </a:rPr>
              <a:t>Animation File 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imated G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PE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W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666699"/>
                </a:solidFill>
                <a:latin typeface="Arial"/>
              </a:rPr>
              <a:t>Animation File Typ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dio Video Interleave (AV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crosoft’s animation and video format for computers running the Windows operating syste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es not compress animation as much as other forma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ll not play on all operating systems or in all players.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aphics Interchange Format (GI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nounced “jiff” or “gif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imated GIFs can contain 2-D or 3-D imag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y are used for cartoons, logos, graphics with transparent areas, and animation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IF files are popular for the use on the Web because the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90000"/>
              </a:lnSpc>
              <a:buClr>
                <a:srgbClr val="99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ve small file siz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90000"/>
              </a:lnSpc>
              <a:buClr>
                <a:srgbClr val="99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 not require a special plug-in or player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90000"/>
              </a:lnSpc>
              <a:buClr>
                <a:srgbClr val="99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supported by most brow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1T19:53:10Z</dcterms:created>
  <dc:creator>tcunning</dc:creator>
  <dc:description/>
  <dc:language>en-US</dc:language>
  <cp:lastModifiedBy>Preferred User</cp:lastModifiedBy>
  <dcterms:modified xsi:type="dcterms:W3CDTF">2011-04-21T00:16:06Z</dcterms:modified>
  <cp:revision>103</cp:revision>
  <dc:subject/>
  <dc:title>7. Publishing an Animation</dc:title>
</cp:coreProperties>
</file>